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AF0-EE2C-4DA4-A86F-AB718CB3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C09-ACD3-4AA4-A3E8-F79D2D7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A08-80B7-493A-9EAF-8574A274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7E3-BB2C-4A88-B7CB-359A37ED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6B7-67D5-4A25-ADDD-3D044F2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D6F-5BF0-4E48-A6EB-F871C455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42B-4CDB-42BC-B50D-D8E4FFE5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BC4-27DF-4D07-9587-D4E5938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48E-EABF-47F0-9039-D3BCE5F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5A8-5B42-45B1-82DA-39539A8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8AC-359A-401F-92ED-FC24D5A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AC8-174C-4960-B859-001D764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931-9245-4F5B-809E-808E162B81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5899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889280"/>
            <a:ext cx="90792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95160" y="1006560"/>
            <a:ext cx="784548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907920" y="3067200"/>
            <a:ext cx="5962680" cy="461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46240" y="3681360"/>
            <a:ext cx="3717720" cy="5191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189080" y="1901880"/>
            <a:ext cx="315756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4541760" y="2023920"/>
            <a:ext cx="3998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2"/>
          <a:stretch/>
        </p:blipFill>
        <p:spPr>
          <a:xfrm>
            <a:off x="493560" y="2359080"/>
            <a:ext cx="83217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4" descr=""/>
          <p:cNvPicPr/>
          <p:nvPr/>
        </p:nvPicPr>
        <p:blipFill>
          <a:blip r:embed="rId3"/>
          <a:stretch/>
        </p:blipFill>
        <p:spPr>
          <a:xfrm>
            <a:off x="738360" y="1042920"/>
            <a:ext cx="802152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920880" y="4552920"/>
            <a:ext cx="326700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01800" y="3249720"/>
            <a:ext cx="3517920" cy="1090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305000" y="5200560"/>
            <a:ext cx="431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4572000" y="3260880"/>
            <a:ext cx="3749760" cy="10918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3" descr=""/>
          <p:cNvPicPr/>
          <p:nvPr/>
        </p:nvPicPr>
        <p:blipFill>
          <a:blip r:embed="rId8"/>
          <a:stretch/>
        </p:blipFill>
        <p:spPr>
          <a:xfrm>
            <a:off x="4937040" y="4541760"/>
            <a:ext cx="367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2"/>
          <a:stretch/>
        </p:blipFill>
        <p:spPr>
          <a:xfrm>
            <a:off x="463680" y="1878120"/>
            <a:ext cx="83264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3"/>
          <a:stretch/>
        </p:blipFill>
        <p:spPr>
          <a:xfrm>
            <a:off x="706320" y="1006560"/>
            <a:ext cx="795024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4"/>
          <a:stretch/>
        </p:blipFill>
        <p:spPr>
          <a:xfrm>
            <a:off x="920880" y="4797360"/>
            <a:ext cx="4279680" cy="646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895320" y="2571840"/>
            <a:ext cx="774216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901800" y="5383080"/>
            <a:ext cx="6761160" cy="6829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914400" y="3260880"/>
            <a:ext cx="811368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920880" y="3975120"/>
            <a:ext cx="81136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4:14Z</dcterms:modified>
  <cp:revision>109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